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D7F-CE68-49F3-92A3-60B08031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D13-C5A4-448E-8637-0AFE66FB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921E-8119-41D8-870C-7E9F2EC9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110-4607-4F1F-9FE0-B65ACF82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40CA-0AE9-43E5-9C22-A7DF41EF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CB36-3955-4DFF-AF12-A06DB4B5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AEF8-A988-4346-978B-9C3B0C48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D0AA-FD48-4326-9BC4-78D27E52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E00A-204B-4688-8782-0A8BB2A3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CFE4-C0B0-4AE6-BD9D-6C3E2D93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D70E-5885-45AE-A060-494253C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0DC-B8FC-4E9E-A746-B4206ECD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F8B7-0011-4002-A63B-9C47269B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0C83-EC22-4151-8D03-C2DAEC25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4D92-E186-4C7C-B2F9-38D3B804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6BBB-3A95-407D-AECC-C5A489B8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6BC9-6E22-40DB-80AC-80458356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255-C9B8-4869-8B56-8BC1AFF3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AB0-1E1B-4A78-B67A-843D7F40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2F2-D39D-4B41-AFAD-B1F534D6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97E-E74D-41B7-A217-0B209610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CF4-89CE-4719-94F0-1CB13A1B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E10-2784-4601-BA82-C29C556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62D-0ED9-4B85-85B0-5D60721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5EB5-00FB-443D-AB82-C0E8C35BE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18CF-138A-48D1-A551-CC5B54F7C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newable Energy: Wind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w Augus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e Bra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ind Introdu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nd Energy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 energy another form of solar energy that is produce by the uneven heating in the atmosphere and the rotation of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Energy is produce from Wind Turbines. When winds are active the blades of the wind turbines are then turned to convert kinetic energy to 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ow Wind is Crea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nd i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d by the uneven heating of Earth’s surface from the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surface is made up of different types of land and water, which absorb heat at different rates and causes the air to move in patter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86200" y="4038480"/>
            <a:ext cx="34290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5038560" cy="6477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vantages of Wind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is ample. It is created constantly in many different pla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can be widely 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is one of the cheapest ways to distribute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wind energy does not give off toxic gas emis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19720" y="3889440"/>
            <a:ext cx="4724280" cy="2968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sadvantages of Wind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Turbines adds on to noise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cannot be predi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harm animals that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cannot be dependable completely due to an area where large amounts of wind power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ind increases while turning the turbines it will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indeis.anl.gov/guide/basics/index.cf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2:47:22Z</dcterms:created>
  <dc:creator>sasd</dc:creator>
  <dc:description/>
  <dc:language>en-US</dc:language>
  <cp:lastModifiedBy>sasd</cp:lastModifiedBy>
  <dcterms:modified xsi:type="dcterms:W3CDTF">2009-04-29T12:48:20Z</dcterms:modified>
  <cp:revision>6</cp:revision>
  <dc:subject/>
  <dc:title>  Renewable Energy: Wind  </dc:title>
</cp:coreProperties>
</file>